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9C6-4B4E-4E75-B988-6DDCA4D0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B5D-7162-4116-A0F9-4C0C61E7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teachers to be honest.  Acknowledge the issues.  Then put it aside and concentrate on what we can ach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 teachers believe that literacy teaching will help- then at least you have ac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78F-2F34-4483-9851-80A28E36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3CC-B5D3-48E3-B115-4C2500DF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have to do it?   What happens if you don’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ill blame other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ose some questions for you –to think about as I introduce ‘surfacing teacher beliefs- the purpose of these images is to set the tone for surfacing the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323-D631-49DF-82F1-187A77CF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is show clear dire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eachers meet-what are trying to achie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outco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DC7-A8DB-451A-88C0-A7CA89C1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focus groups-how will you know you are getting somew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uides you in your focus grou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7A95-3C75-4279-8799-4FE0705A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eachers believe literacy teaching is going to help their students achieve-they will set full sail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don’t –they will not achiev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483-80A5-47AF-B521-F2C44FEE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FC2-5E6E-42B8-996E-A8FBC236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8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981440" cy="87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"/>
          <p:cNvPicPr/>
          <p:nvPr/>
        </p:nvPicPr>
        <p:blipFill>
          <a:blip r:embed="rId4"/>
          <a:stretch/>
        </p:blipFill>
        <p:spPr>
          <a:xfrm>
            <a:off x="7010280" y="5867280"/>
            <a:ext cx="1828800" cy="80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rewa High Schoo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teracy Te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udent Achievement Contrac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cus on writing and middle leadership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3733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088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5105520"/>
            <a:ext cx="4952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17680" y="5308560"/>
            <a:ext cx="212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a Madgw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ndy Wy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your post-its into the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 your categ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nowledge what is outside teachers influ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the positive-what teachers can influ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gether you have identified what your teachers believe makes a difference to students’ writing.  This sets a direction for your next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makes a literacy lead team work effectively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 together what makes a literacy team highly effective?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really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 up with a list of literacy lead team protoco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ighly effective lead team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clear 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greed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purpose for their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collective respons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open and embrace risk t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networking/partner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outcomes ar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student focus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ase-line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types of data was collected as a snapsh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Time students spent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Effective writ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Student 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writ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ing is not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ing is “creating meaningful text shaped for a specific purpose and audienc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HS-Baseline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Content Placeholder 3"/>
          <p:cNvGraphicFramePr/>
          <p:nvPr/>
        </p:nvGraphicFramePr>
        <p:xfrm>
          <a:off x="685800" y="2057400"/>
          <a:ext cx="77724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-6793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676520"/>
          <a:ext cx="75819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819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8"/>
          <p:cNvSpPr/>
          <p:nvPr/>
        </p:nvSpPr>
        <p:spPr>
          <a:xfrm>
            <a:off x="609480" y="762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writing principles-baselin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does the teacher do to help you write an excellent piece of writ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vides notes and examples-proof reads, gives feedbac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ses ppt- flags important parts.  We do lots of note-taking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minds us the key concepts but doesn’t give us the answers- so we have to figure things out.  Simplifies thing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oes through our weaknesses, puts us into mixed ability groups.  It really help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xplains the wor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hing really.  He/she has never talked about excellence.  He/she says just to pass. Other teachers talk about excellenc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 Biology I know that structure will help me get an achieved but to get to merit I need to describe the function and excellence- I need to compare/contrast-It is similar in geography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rfacing belief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rcRect l="-10159" t="0" r="-10159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1219320" y="6126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acilitator reflections-MH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xture of group and individual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mostly high expectations-but one class of low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highly scaffolded tasks in some class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evidence of success criteria-(What does a good piece of writing look lik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ow are we going to know that we are making progres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 different wa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xt mee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may form pairs from the literacy team at Alfriston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-specific facilitators will join us (if available) to help identify the writing demands from a student sample of an identified class and pla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efore the next mee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get some baseline data for a senior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it to the next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 something from today with your depar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the vision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Content Placeholder 3" descr="emirates-vs-desafio.jpg"/>
          <p:cNvPicPr/>
          <p:nvPr/>
        </p:nvPicPr>
        <p:blipFill>
          <a:blip r:embed="rId1"/>
          <a:srcRect l="-18181" t="0" r="-18181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143000" y="63104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goals set the direction for where you are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ssible vis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Through cross-curricular collaboration and inquiry, middle leaders are  empowered to support teachers to develop responsive pedagogies that make a difference to students’ learning with a focus on writing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ssible Goal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identify a specific learning need for one focus class.  Trial strategies and reflect on the impact of their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increase their understanding of effective pedagogy in writing in their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lead their departments to implement their own inquiries into effective teaching of writing that makes a difference to stud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going to guide you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Content Placeholder 3" descr="change direction.jpeg"/>
          <p:cNvPicPr/>
          <p:nvPr/>
        </p:nvPicPr>
        <p:blipFill>
          <a:blip r:embed="rId1"/>
          <a:srcRect l="-74542" t="0" r="-74542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71600" y="6126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at each meeting helps you decide whether you need to change/ adapt /refine or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evidenc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ed strategies to t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task/ student work/ student 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s-establish goals/feedback and feedforward of your own classroom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s- establish goals/feedback and feedforward for leading your department on an inquiry to improve students’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you believe will make a differenc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Content Placeholder 3" descr="broken sail.jpg"/>
          <p:cNvPicPr/>
          <p:nvPr/>
        </p:nvPicPr>
        <p:blipFill>
          <a:blip r:embed="rId1"/>
          <a:srcRect l="-10608" t="0" r="-10608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219320" y="6126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atter what PD is given to your teachers if they don’t believe it makes a difference-nothing wil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you believe influences students’  writing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ly brainstorm all the major influences that affect students’ writing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ost-its and write one factor per post-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roups of 3, share your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your ideas into groups/the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your ideas into two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Factors outside your influence as a teac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Factors that you can influence as a te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00:38:05Z</dcterms:created>
  <dc:creator/>
  <dc:description/>
  <dc:language>en-US</dc:language>
  <cp:lastModifiedBy>a.madgwick</cp:lastModifiedBy>
  <cp:lastPrinted>2012-08-16T00:51:40Z</cp:lastPrinted>
  <dcterms:modified xsi:type="dcterms:W3CDTF">2012-08-16T00:52:44Z</dcterms:modified>
  <cp:revision>8</cp:revision>
  <dc:subject/>
  <dc:title>Professional Learning  and Development:  Best Evidence Synthesis  </dc:title>
</cp:coreProperties>
</file>